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6B4-BC93-4113-9CC1-C2A6DEE3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6D1F-7345-4142-9C4C-75C5196F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13C-6121-4FE3-96A3-1C4A3EF5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1731-FF7C-455C-9266-63EA08B1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95ED-3DA9-4178-AE2C-725C2A13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0D27-8998-43AD-B4E0-9A971E96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ED6-5ADC-46D3-B876-842DCD32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FB59-9579-4529-8518-F83E765D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F17-7A2D-4E3A-B0FE-8D10FE78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4E25-2C20-47D6-B0B5-B4AA4BD5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964F-AC85-4232-93DC-8D900B32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CB2-42B1-4672-BC41-CFDE331B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8412-8876-4C29-938C-2054C6606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urlz MT"/>
              </a:rPr>
              <a:t>Fractions: Are they Mixed-Up or just Impro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l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include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t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Do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y poster shows that I understand fractions very well? 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 my images relate to fractions and add to the meaning?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 I use lines, shapes, mass, texture, and color creatively. Is my poster is interesting, attractive, and meaningful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created on Publisher or done by h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48320" y="1600200"/>
          <a:ext cx="4329000" cy="4525920"/>
        </p:xfrm>
        <a:graphic>
          <a:graphicData uri="http://schemas.openxmlformats.org/drawingml/2006/table">
            <a:tbl>
              <a:tblPr/>
              <a:tblGrid>
                <a:gridCol w="3681000"/>
                <a:gridCol w="216000"/>
                <a:gridCol w="216000"/>
                <a:gridCol w="216000"/>
              </a:tblGrid>
              <a:tr h="1876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4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7:15:28Z</dcterms:created>
  <dc:creator>Eldred Central School</dc:creator>
  <dc:description/>
  <dc:language>en-US</dc:language>
  <cp:lastModifiedBy>Eldred Central School</cp:lastModifiedBy>
  <dcterms:modified xsi:type="dcterms:W3CDTF">2010-07-02T18:38:35Z</dcterms:modified>
  <cp:revision>2</cp:revision>
  <dc:subject/>
  <dc:title>Student Samples</dc:title>
</cp:coreProperties>
</file>